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47E5A-A314-4CE1-AD43-8FF9B3C3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0EBED-AE9D-4CB3-B31C-703DF744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AD39A-8419-4B4F-822C-37EA5E36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54137-688A-421E-89C5-B6F534DF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538B0-F43A-46E4-981F-12C669C29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233AB-9B83-4692-9946-6DC937E9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7BC65-CAFD-49D0-93CF-FD4712EA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8F9BF-AC11-4800-80E2-59AF06CB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C9AC4-7469-4C68-8A59-7027EFEE3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48074E-C2E7-41FF-A80F-9D193787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439EB2-B970-4F25-8B6B-6A2D2A296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27BB-3767-4FBA-8987-388A33161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36F6-D202-44E2-81B6-51CCA0A96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3A3D-EE06-40FF-9A21-9622C66AD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0DD9-8DFA-4E6E-9D1E-FD2573740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053C-3AE0-41AD-A05A-54EDBA314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663A-3FA4-41AB-8E86-831C406BC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0F21-A2EF-44A0-B430-6CAAA83C0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7707-8152-450B-BA83-228E3E029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4AD1-7FE3-4195-9452-2E6FEE253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FD76-5E4E-47BF-BBA0-AFE861DCC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DA00-7469-4DF0-82E1-55F714FC0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708E-FA73-4070-B7FD-04D866954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D3B74FE9-D69B-46E9-B5F6-5D1796F289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0E0858B5-AF11-4FBB-ACC8-2B00DB04B3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9810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z déjà vu des infinitifs se terminant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’infinitif de certains verbes français se termine pa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327DBAC5-689C-47BB-BA84-4BFA30E725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533520" y="1558800"/>
            <a:ext cx="8048520" cy="484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981000" y="176220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u présent du verb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62120" y="2743200"/>
            <a:ext cx="76215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s __________ (attendre) l’arrivée du trai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us __________ (répondre) aux questions du professeu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 __________ (sourire) quand je suis heureus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 on __________ (construire) trop, on __________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détruire) la natur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nd il fait froid, vous __________ (mettre) un pul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-ce que les étudiants __________ (entendre) l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fesseur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77880" y="2766960"/>
            <a:ext cx="16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attend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6ED0064D-70D1-462D-9B12-D3295386CF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9350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verbes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tt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uivent un modèle de conjugaison régu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66680" y="2849400"/>
            <a:ext cx="7237440" cy="206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1371600" y="5059440"/>
            <a:ext cx="640080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50D9AF64-BAE1-448F-9513-66C244C54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espaces_p206"/>
          <p:cNvPicPr/>
          <p:nvPr/>
        </p:nvPicPr>
        <p:blipFill>
          <a:blip r:embed="rId2"/>
          <a:stretch/>
        </p:blipFill>
        <p:spPr>
          <a:xfrm>
            <a:off x="714240" y="2057400"/>
            <a:ext cx="771552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8C1D17A9-3D8C-460A-B68F-D551603F0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4360" y="2130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tt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i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ait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n français, ce verbe ne prend pas de pré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621972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243EA2F6-3DB1-402C-8307-2A3BB4BCD1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99512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former le participe passé des verbes réguliers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ffacez l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’infinitif et ajoutez u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371600" y="3214800"/>
            <a:ext cx="6172200" cy="19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85BFFE2C-C27F-4B56-90EE-8A944C9E4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360" y="20034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endre visite 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visit a 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ors qu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visi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visit a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600200" y="3070080"/>
            <a:ext cx="579132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A36D883D-33A3-4688-ABAE-C07E3BB61B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6776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s verbes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irrégul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219320" y="2255760"/>
            <a:ext cx="655308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1371600" y="5640480"/>
            <a:ext cx="6400800" cy="7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14FEFEA4-2657-4E54-83FA-75251FE53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1371600" y="1963800"/>
            <a:ext cx="6400800" cy="28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6DF4CA6E-3D46-459B-B15B-FC648F46B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949400"/>
            <a:ext cx="830592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et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s verbes dérivé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er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uivent le même modèle: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erm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m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n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n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s verbes similaires suivent le même modèle: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 constr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nstr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étr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étr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é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é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ra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ra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ur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u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© 2011 Vista Higher Learning. All rights reserved.</dc:creator>
  <dc:description/>
  <cp:keywords/>
  <dc:language>en-US</dc:language>
  <cp:lastModifiedBy>Viviane Grebert</cp:lastModifiedBy>
  <dcterms:modified xsi:type="dcterms:W3CDTF">2011-12-04T18:45:29Z</dcterms:modified>
  <cp:revision>33</cp:revision>
  <dc:subject>Espaces: Rendez-vous avec le monde francophone, Second Edition</dc:subject>
  <dc:title>Unité 6: Les fêtes</dc:title>
</cp:coreProperties>
</file>